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0F39-486C-466B-947D-8489CA28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019A-F292-41B0-9B76-C3FB33A0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0C5F-1B41-459B-B471-35AFF4ED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2984-A720-41E6-84D2-81FFD820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4AD3-B87D-41E4-8ECB-712446F7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76DD-93B3-4270-AE0F-50B1CB99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E3DD-9CD1-4587-9EDE-D2C434C6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A14E-C83A-4A4F-9502-1611654C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254A-BD17-4B1C-A5F3-5C43E76C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0ADA-E13C-4C7E-8377-72187C99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52EA-CD53-449D-BB58-8D924AE2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FC29-C24B-4D38-90AC-6C7E9909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B5EB-2D78-4783-9149-90ADB76E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CE32-D462-4A62-9CFA-10137012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8CA5-CBA2-41AF-BBB5-4B7C72BE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9AD2-4B1C-4342-9EAD-95BF3410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ED73-4184-4E44-A099-C6857123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C00E-CD61-4D24-AD20-5B54335E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1D69-9F44-439C-9282-E6A4BA21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476F-449C-46ED-8CB4-360AAB07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1D47-D1FB-4C99-8765-6C3392ED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42D8-628C-4446-8062-10627680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C4AF-449E-4B7E-8F4C-D4B19746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4110-DD1F-4FF3-9431-62ACF960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6283-F672-4025-8A20-7CA9A7FED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97F5-9453-46FB-9699-48023C9123C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-8128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三章  保险营销管理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传统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代理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代理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代理人的业务范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代理人的法律特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保险代理人营销的优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经纪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经纪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经纪人的职业操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经纪人的业务运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创新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电话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电话营销的优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电话营销的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互联网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互联网营销的优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大大降低了展业成本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增加了新的销售机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利于提高保险服务质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网络营销的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法律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银行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银行保险的产生和发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银行保险的合作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作协议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资公司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建立金融服务集团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金融服务集团的经营模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大数据和互联网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中的大数据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中大数据技术是基于对海量数据进行分析，从不同维度和深度挖掘保险应用特性，进而优化保险价值链条的各个环节。其中精准营销和精准定价以及反欺诈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大数据在精准营销中的作用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精准获取新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持续转化准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减少退保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互联网保险的定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广义定义：互联网保险业务是指保险机构依托互联网和移动通信等技术，通过自营网络平台、第三方网络平台等开展保险业务、提供保险服务的保险经营活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狭义定义：互联网保险是指基于互联网、大数据、云数据等信息技术手段，从保险产品设计、风险管理和保险信息咨询到投保、核保、保全、理赔和给付等保险全过程互联网化的保险经营活动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互联网保险参与的主体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开展互联网保险业务的传统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互联网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电子商务平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中介平台。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一节   保险营销的概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营销  保险代理人  保险经纪人   互联网营销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营销的宏观环境因素和微观环境因素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纪人的业务运作主要包括哪些方面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新险种开发的主要步骤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新险种开发时如何优化险种组合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电话营销？它有什么优缺点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哪些优点？存在哪些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的合作方式有哪些？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9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什么是互联网保险（狭义）？我国互联网保险参与主体有哪些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营销的概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营销的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P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产品、价格、分销渠道和促销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营销的发展阶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产品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销售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市场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营销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宏观环境分析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微观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投保人行为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节    保险新险种的开发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一、保险新险种的界定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新险种是指整体险种或其中的一部分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所创新或改革，能够给保险消费者带来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利益和满足的险种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二、保险新险种开发的步骤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险种开发的程序包括构思的形成、构思的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选、市场分析、开发设计、试销过程和商品化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步骤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三、保险新险种开发的策略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目标市场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产品组合策略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险种质量优化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29:14Z</dcterms:modified>
  <cp:revision>24</cp:revision>
  <dc:subject/>
  <dc:title>没有幻灯片标题</dc:title>
</cp:coreProperties>
</file>